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F7E0E-4787-4AD2-9207-8DCF5A5F0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47F8C-87CD-429A-BE50-B8F9E9D38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1E49B-E08A-45A5-B232-B9345E81C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35721-84FD-43E4-A9FA-4F5D0E95D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57EB4-B537-4469-81C1-C9A5A5540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83B3F-A76A-4B90-9030-63EEE2D7A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69C25-B5FE-41AB-8700-14696E271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8B504-BB2E-417D-B78D-1CF16095E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1BA9C-72AB-483C-83A9-84D3765D4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D10DB-04B5-459C-8B6E-BB12C4199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05292-F1FF-4168-8DBA-494D237B2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DC8C1-431D-4A02-A4F9-0B7BD9BA2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32A64-DDBF-4711-B463-4CA7C20DE29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21T00:59:46Z</dcterms:created>
  <dc:creator>Administrator</dc:creator>
  <dc:description/>
  <dc:language>en-US</dc:language>
  <cp:lastModifiedBy>Administrator</cp:lastModifiedBy>
  <dcterms:modified xsi:type="dcterms:W3CDTF">2015-04-21T01:00:09Z</dcterms:modified>
  <cp:revision>1</cp:revision>
  <dc:subject/>
  <dc:title/>
</cp:coreProperties>
</file>